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4F3-90DE-4F49-83A5-45E808C5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E4D-2273-4668-A1E0-BFF21DF8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E01-81E1-4A30-A43A-DC69FDAD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DB3-3EF5-43BB-819B-5F699269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5D5-84F4-4908-8F07-B01F164D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B4E-542E-4C0A-B238-093CD48E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D45-D23D-40C3-8243-F84CE0BA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2CE-57DB-4020-B66C-FB57C7CD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99B-16DA-45CA-848E-2A4039EC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28E-DC4B-482F-9096-F2805C04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C6A-1DD5-4C35-952E-A7E99846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CDA-BDA5-4845-993A-5B14D1C6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1595-7757-4206-B22A-47DDE785AA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7708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8:11:58Z</dcterms:created>
  <dc:creator>X4195945</dc:creator>
  <dc:description/>
  <dc:language>en-US</dc:language>
  <cp:lastModifiedBy>X4195945</cp:lastModifiedBy>
  <dcterms:modified xsi:type="dcterms:W3CDTF">2010-12-29T08:12:33Z</dcterms:modified>
  <cp:revision>1</cp:revision>
  <dc:subject/>
  <dc:title>שקופית 1</dc:title>
</cp:coreProperties>
</file>