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C3F-0E66-47FF-98DC-DF3D2625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D57-F448-472F-BA11-FFC84B47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268-2DDE-4E4C-A15B-BCAF386A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D2D-C850-4699-A298-9FC074D0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7FA-CCC9-4A46-AF0C-1F4F273B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563-106D-45D8-8A99-15214FCA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534-919A-4C5C-AC4E-ADED13AE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1B4-3EAA-40A2-9692-FECE309F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102-D3B2-4430-B930-70CCD735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3AD-B270-4A0B-BB1F-034F156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049-F19D-40F7-88EF-25AF5771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A7D-0904-4FD3-AAFA-DB58508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B3B1-7C9F-44F1-B6D4-96A0F47829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664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13:15Z</dcterms:created>
  <dc:creator>X4195945</dc:creator>
  <dc:description/>
  <dc:language>en-US</dc:language>
  <cp:lastModifiedBy>X4195945</cp:lastModifiedBy>
  <dcterms:modified xsi:type="dcterms:W3CDTF">2010-12-29T08:13:31Z</dcterms:modified>
  <cp:revision>1</cp:revision>
  <dc:subject/>
  <dc:title>שקופית 1</dc:title>
</cp:coreProperties>
</file>